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42BB-4B98-4D7C-A216-EB15D0E49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3B81D-8332-4EAD-AC01-1C93D5872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EF0BC-D101-4677-B635-E071600F2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B6CF2-4CAB-453A-8B43-00551EC18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EE27-1CDF-4C04-B8AB-AE1091AA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8AD2-E61B-4B60-8FDD-28D2AA98F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5CF5-233A-4783-8136-37CA6C66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AA9C0-2B3A-442C-A389-BE01A4484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C764-AA46-447D-B70A-AC2BC201F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FDA7F-4B0D-41E5-9D48-2127163B4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9F2CE-BDF9-4013-A076-8F428E78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3995-0F51-47E4-B787-76230C44D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D724-5907-45C0-AD03-EF2B425A4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808000"/>
                </a:solidFill>
                <a:latin typeface="Times New Roman"/>
              </a:rPr>
              <a:t>US, CHINA, AND THE KOREAN PENINSULA: IMPLICATIONS FOR ARGENTINA</a:t>
            </a:r>
            <a:r>
              <a:rPr b="0" lang="en-GB"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 Be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oria University of Wellingt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Zea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Agreed Framework</a:t>
            </a: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ton 1994</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RK</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hball and then decommission nuclear reacto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nge provision of 2 light water rea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heavy fuel oi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ft sanctions, move to diplomatic relation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09E76730-E954-4AE3-AB13-E604B8BF0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llapse of Agreed Framework</a:t>
            </a:r>
            <a:endParaRPr b="0" lang="en-US" sz="4400" spc="-1" strike="noStrike">
              <a:solidFill>
                <a:srgbClr val="808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nton never fully implemented AF, Bush effectively destroyed it late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d DPRK having enriched uranium programme for weap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evidence, China, ROK don’t believe accusation, DPRK denies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ublicans  had opposed AF, Japan-DPRK 2002 summit triggered a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297C7372-358D-4C55-ACFC-EBD0A58FA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X PARTY TALKS</a:t>
            </a: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kered by Chin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arty April 200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27-29 August 200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25-28 Feb 200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June 200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July- August and September 200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44B78835-2185-44CE-8A0C-064A4B38AF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x Party Talks</a:t>
            </a:r>
            <a:endParaRPr b="0" lang="en-US" sz="4400" spc="-1" strike="noStrike">
              <a:solidFill>
                <a:srgbClr val="808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rality of the 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inates East Asia and for ALL countries the relationship with US is most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o things against their own interests – eg send troops to Iraq – to keep US happ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plays a waiting ga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licy options are limited; US is more comple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9AF17EA0-1494-407F-ACF0-50C1F9A42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x Party Talks 2005&gt;&gt;</a:t>
            </a: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throug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tatement 19 September 2005</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dow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0 September 2005</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750BCBC4-3F50-46D6-8649-27344A4737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REAKTHROUGH</a:t>
            </a:r>
            <a:endParaRPr b="0" lang="en-US" sz="4400" spc="-1" strike="noStrike">
              <a:solidFill>
                <a:srgbClr val="808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Statement took everyone by surpris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indication earlier of any shifting of position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ambiguou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d a face-saving way for US to return to Agreed Framework</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interesting omis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DDDE923C-07B6-4A6E-993B-9FE17F0186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missions</a:t>
            </a:r>
            <a:br>
              <a:rPr sz="4400"/>
            </a:br>
            <a:endParaRPr b="0" lang="en-US" sz="4400" spc="-1" strike="noStrike">
              <a:solidFill>
                <a:srgbClr val="808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vy enriched urani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been the alleged reasons for US tearing up Agreed Framewor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e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tect of US Korea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personally intervened at previous round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E5BE4E50-11B7-40F1-B945-E269B8DFDA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NY Times account</a:t>
            </a:r>
            <a:endParaRPr b="0" lang="en-US" sz="4400" spc="-1" strike="noStrike">
              <a:solidFill>
                <a:srgbClr val="808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U.S.-Korean Deal on Arms Leaves Key Points Ope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ptember 20, 200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By JOSEPH KAHN and DAVID E. SANG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Chinese applied pressure on DPRK, but more on U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BC3BF2BE-508E-4B7A-A6FD-B0EF051C1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Chinese pressure</a:t>
            </a: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As this unfolded over the weekend, the Chinese increased pressure on the United States to sign - or take responsibility for a breakdown in the tal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At one point they told us that we were totally isolated on this and that they would go to the press," and explain that the United States sank the accord, the senior administration official sai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07B98FAA-322A-4BE4-A431-7FC3CB0B7C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Why did US sign?</a:t>
            </a:r>
            <a:endParaRPr b="0" lang="en-US" sz="4400" spc="-1" strike="noStrike">
              <a:solidFill>
                <a:srgbClr val="808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Cheney abs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Ri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ach country, she suggested, would issue separate statements describing their understanding of the deal, with a specificity that is not in the agreement itself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Did that, in Washington and Beijing, DPRK reacted, &gt;&gt;BREAKDOW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6A63934A-2BBE-4636-A0DB-8967300F22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VERVIEW</a:t>
            </a:r>
            <a:endParaRPr b="0" lang="en-US" sz="4400" spc="-1" strike="noStrike">
              <a:solidFill>
                <a:srgbClr val="808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Council condemnation of N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 Party Tal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Breakthrough, Breakdow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the contes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ons of the contesta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ssia, Japan, China, ROK, DP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5F6F6E37-E142-4998-A57E-865F382FC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CHARACTERISTICS of Six Party Framework</a:t>
            </a:r>
            <a:endParaRPr b="0" lang="en-US" sz="4400" spc="-1" strike="noStrike">
              <a:solidFill>
                <a:srgbClr val="808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1: US is sali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US is by far the most important country for each of the oth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Not reciprocat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All of them want good rel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Not least DPR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8C6D92B9-504F-4ABA-8280-076048837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Focus on US</a:t>
            </a:r>
            <a:endParaRPr b="0" lang="en-US" sz="4400" spc="-1" strike="noStrike">
              <a:solidFill>
                <a:srgbClr val="808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US is key to pe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US could soon negotiate end to DPRK programme, and move on to pe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Question is, why does it n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Focus in analysis should be on US, not DPR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AD5A1493-0A26-4666-A9AC-4C7A72457C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2: Asymmetry</a:t>
            </a:r>
            <a:endParaRPr b="0" lang="en-US" sz="4400" spc="-1" strike="noStrike">
              <a:solidFill>
                <a:srgbClr val="808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Six parties are very dispara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Population, wealth, military power, political system, culture, sovereignty, etc.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BA9D2DF3-10BE-44C7-95F1-F1FDF959CF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Sovereignty and power I</a:t>
            </a:r>
            <a:endParaRPr b="0" lang="en-US" sz="4400" spc="-1" strike="noStrike">
              <a:solidFill>
                <a:srgbClr val="808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US is the superpow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No serious threat from any other pow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Question of projecting pow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Iraq shows limi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Russia, China and Jap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Equal in military spend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But Japan not ‘normal countr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Has US bases. large element of US military contro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46711AD3-51D1-48D0-A18A-9D2F52CA9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Sovereignty and power II</a:t>
            </a:r>
            <a:endParaRPr b="0" lang="en-US" sz="4400" spc="-1" strike="noStrike">
              <a:solidFill>
                <a:srgbClr val="808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RO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Much bigger and richer than DPRK, much larger military spending, advanced equipme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ea typeface="SimSun"/>
              </a:rPr>
              <a:t>But US has ‘wartime control’, and bas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P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Weakest and smalles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ea typeface="SimSun"/>
              </a:rPr>
              <a:t>Limited project of power; defense paramou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ea typeface="SimSun"/>
              </a:rPr>
              <a:t>No foreign bases, military exercise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IS DPRK-China mutual defence treaty operab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C4BC81E7-C9BE-4113-B6EE-9B3B3C5F8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Asymmetry: DPRK and US</a:t>
            </a:r>
            <a:endParaRPr b="0" lang="en-US" sz="4400" spc="-1" strike="noStrike">
              <a:solidFill>
                <a:srgbClr val="8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Times New Roman"/>
              <a:ea typeface="SimSu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401F2882-EF21-49F4-BCE7-0D9DFCC8B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DPRK</a:t>
            </a:r>
            <a:endParaRPr b="0" lang="en-US" sz="4400" spc="-1" strike="noStrike">
              <a:solidFill>
                <a:srgbClr val="808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Negotiations with US key to fut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Mistakes could be fa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Only US can attack, or allow atta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Options limi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etermined and focuss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46F6E900-ADF8-43DC-9FA2-C5C8BFBC5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US</a:t>
            </a:r>
            <a:endParaRPr b="0" lang="en-US" sz="4400" spc="-1" strike="noStrike">
              <a:solidFill>
                <a:srgbClr val="808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PRK </a:t>
            </a:r>
            <a:r>
              <a:rPr b="0" i="1" lang="en-NZ" sz="2800" spc="-1" strike="noStrike">
                <a:solidFill>
                  <a:srgbClr val="000000"/>
                </a:solidFill>
                <a:latin typeface="Times New Roman"/>
                <a:ea typeface="SimSun"/>
              </a:rPr>
              <a:t>itself</a:t>
            </a:r>
            <a:r>
              <a:rPr b="0" lang="en-NZ" sz="2800" spc="-1" strike="noStrike">
                <a:solidFill>
                  <a:srgbClr val="000000"/>
                </a:solidFill>
                <a:latin typeface="Times New Roman"/>
                <a:ea typeface="SimSun"/>
              </a:rPr>
              <a:t> not important, no thre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It is implications of DPRK for global and regional strategies which is importa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Wide range of problems and issues around the world (Iraq, Iran, Islamic nationalis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Open society, traditionally confident in invulnerability and miss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Partisanship (eg ABC&gt;&gt;LW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Many options, no urgen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5B0C993B-83F3-4CF5-BC86-4943E2511C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POSITIONS</a:t>
            </a:r>
            <a:endParaRPr b="0" lang="en-US" sz="4400" spc="-1" strike="noStrike">
              <a:solidFill>
                <a:srgbClr val="808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Russia, China, ROK fairly simil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Oppose DPRK nuclear weap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Facilitate Japanese remilitarisation and nuclearis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Could provoke US to wa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War would have horrendous consequences for Korean peninsula and reg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China fear that hawks might use opportunity to attack</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35F2DA18-4143-4593-97B8-0FD454301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Russia, China, ROK</a:t>
            </a:r>
            <a:endParaRPr b="0" lang="en-US" sz="4400" spc="-1" strike="noStrike">
              <a:solidFill>
                <a:srgbClr val="808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Want stability, pe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Different attitudes towards unification but all want economic cooperation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All oppose collapse of DPR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4A75AFFC-A75F-4969-A647-40E82FA4FE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ecurity Council condemnation </a:t>
            </a:r>
            <a:endParaRPr b="0" lang="en-US" sz="4400" spc="-1" strike="noStrike">
              <a:solidFill>
                <a:srgbClr val="808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entina non-permanent member of UNS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nimous condemnation of DPRK missile tests 4 Ju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rayed as straightforward action of ‘international community’ against ‘rogue st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C00AE1D1-4791-42E6-902D-062CC3174F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Japan</a:t>
            </a:r>
            <a:endParaRPr b="0" lang="en-US" sz="4400" spc="-1" strike="noStrike">
              <a:solidFill>
                <a:srgbClr val="808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Currently a ‘spoiler’ – bringing abductee issue to S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Abductee issue good for domestic consum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Tension with DPRK&gt;&gt;remilitaris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Aimed at Chin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Worried about Korean reunif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8D42E26C-6772-489D-B96F-55EEFADE57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US response to JS</a:t>
            </a:r>
            <a:endParaRPr b="0" lang="en-US" sz="4400" spc="-1" strike="noStrike">
              <a:solidFill>
                <a:srgbClr val="808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Intensified use of psychowar weapons&gt;&gt;financial sanction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a:t>
            </a:r>
            <a:r>
              <a:rPr b="0" lang="en-NZ" sz="2800" spc="-1" strike="noStrike">
                <a:solidFill>
                  <a:srgbClr val="000000"/>
                </a:solidFill>
                <a:latin typeface="Times New Roman"/>
                <a:ea typeface="SimSun"/>
              </a:rPr>
              <a:t>Human rights’, allegations about counterfeiting, drugs</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Seldom any hard evidenc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Even by US charges, scale of offences small, not proportional to effect on SP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Deliberate attempt to derail Six Party Tal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C3EEF7F5-E81A-4383-ABA3-FC1D7A6B15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DPRK response</a:t>
            </a:r>
            <a:endParaRPr b="0" lang="en-US" sz="4400" spc="-1" strike="noStrike">
              <a:solidFill>
                <a:srgbClr val="808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Boycott Six Party Talks until financial sanctions lif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Missile tests attempt to force US to negotia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Return, in effect to Agreed Frame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836BD1AD-5657-4D9D-8558-14FC784FAF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Two strands of logic in US strategy</a:t>
            </a:r>
            <a:endParaRPr b="0" lang="en-US" sz="4400" spc="-1" strike="noStrike">
              <a:solidFill>
                <a:srgbClr val="808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Overlapping, sometimes contradictory impera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Global and Region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EDE146F1-0BF4-4B53-983F-9E4B843EE8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Global</a:t>
            </a:r>
            <a:endParaRPr b="0" lang="en-US" sz="4400" spc="-1" strike="noStrike">
              <a:solidFill>
                <a:srgbClr val="808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PRK must be punished and destroyed as an example to oth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Peaceful coexistence would send wrong mess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Not as pressing an issue as Middle Ea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estruction of DPRK desirab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AC40C65A-6498-4544-B1D1-CE4CD1BD46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Regional</a:t>
            </a:r>
            <a:endParaRPr b="0" lang="en-US" sz="4400" spc="-1" strike="noStrike">
              <a:solidFill>
                <a:srgbClr val="808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Prime objective is containment of China</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US-Japan alliance (now involving Taiwa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Overtures to India, support for nuclear (missile?) programm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PRK threat and tension essential ingredi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SimSun"/>
              </a:rPr>
              <a:t>Keep and consolidate Japan  and ROK under US hegemon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Reunification would undercut military presence in Kore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Survival of DPRK desirab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56A03D7C-A67C-478F-9C20-8A71026775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Convoluted contestations</a:t>
            </a:r>
            <a:endParaRPr b="0" lang="en-US" sz="4400" spc="-1" strike="noStrike">
              <a:solidFill>
                <a:srgbClr val="808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All the six parties are contesting amongst each oth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Sometimes openly, sometimes no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China-DPRK; US-ROK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In official announcements stand should-to-shoulder</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Disagreements can be discerned with careful read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D5DE48EA-87AE-4B7E-BF42-C33B9556B8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808000"/>
                </a:solidFill>
                <a:latin typeface="Times New Roman"/>
                <a:ea typeface="SimSun"/>
              </a:rPr>
              <a:t>Implications for Argentina</a:t>
            </a:r>
            <a:endParaRPr b="0" lang="en-US" sz="4400" spc="-1" strike="noStrike">
              <a:solidFill>
                <a:srgbClr val="808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US faced with</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Obdurate North Kore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Wavering South Kore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Rising Chin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SimSun"/>
              </a:rPr>
              <a:t>..problems at home and abroad</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Korean situation, Six Part Talks have to be interpreted within that contex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SimSun"/>
              </a:rPr>
              <a:t>Important for Argentina to understand</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852C742D-4D5B-4E38-AC2D-43E984515EF7}"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eality</a:t>
            </a:r>
            <a:endParaRPr b="0" lang="en-US" sz="4400" spc="-1" strike="noStrike">
              <a:solidFill>
                <a:srgbClr val="808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RK test not wise, b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illeg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unusu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C resolution violation of UN ch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 of compromise between China/Russia/ROK and US/Jap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E6E39F71-FC1E-4AB3-97DB-F33DF868A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egal position</a:t>
            </a:r>
            <a:endParaRPr b="0" lang="en-US" sz="4400" spc="-1" strike="noStrike">
              <a:solidFill>
                <a:srgbClr val="808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le tests by sovereign states not illeg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RK not party to any treaty restraining missile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self-imposed moratorium since 1999 with 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valid if US negotiat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6E5C7E38-A917-4DB5-AE08-ECB4894535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text of missile tests</a:t>
            </a:r>
            <a:endParaRPr b="0" lang="en-US" sz="4400" spc="-1" strike="noStrike">
              <a:solidFill>
                <a:srgbClr val="808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ong-range missile tests in the perio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 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ssia –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 –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Z – 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entin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D4C5B6A2-EE83-43F3-90B6-BE6E4E1B1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OK</a:t>
            </a:r>
            <a:endParaRPr b="0" lang="en-US" sz="4400" spc="-1" strike="noStrike">
              <a:solidFill>
                <a:srgbClr val="808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launch military communications satell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conducted 10 tests of cruise missiles in last 3 yea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7938B680-8756-412A-BDF5-F85ABFDFB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UNSC</a:t>
            </a: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condemn DPRK and not other countries testing missi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so slow to take action over Israel’s invasion of Leban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pressure on Iran, not Israe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not law but power of U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t>
            </a:r>
            <a:r>
              <a:rPr b="1" lang="en-US" sz="2800" spc="-1" strike="noStrike">
                <a:solidFill>
                  <a:srgbClr val="000000"/>
                </a:solidFill>
                <a:latin typeface="Times New Roman"/>
              </a:rPr>
              <a:t>limitations</a:t>
            </a:r>
            <a:r>
              <a:rPr b="0" lang="en-US" sz="2800" spc="-1" strike="noStrike">
                <a:solidFill>
                  <a:srgbClr val="000000"/>
                </a:solidFill>
                <a:latin typeface="Times New Roman"/>
              </a:rPr>
              <a:t> of that pow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survey Six Party tal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253C4129-6A96-4355-A3EE-BC9D5E12BA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x Party Talks - background</a:t>
            </a:r>
            <a:endParaRPr b="0" lang="en-US" sz="4400" spc="-1" strike="noStrike">
              <a:solidFill>
                <a:srgbClr val="808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it beg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ese period, Liberation and Division, Korean War…Agreed Framewor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d Frame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s, course and collap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KS Congress La Plata August 2006</a:t>
            </a:r>
          </a:p>
        </p:txBody>
      </p:sp>
      <p:sp>
        <p:nvSpPr>
          <p:cNvPr id="5" name="PlaceHolder 4"/>
          <p:cNvSpPr>
            <a:spLocks noGrp="1"/>
          </p:cNvSpPr>
          <p:nvPr>
            <p:ph type="sldNum" idx="3"/>
          </p:nvPr>
        </p:nvSpPr>
        <p:spPr/>
        <p:txBody>
          <a:bodyPr/>
          <a:p>
            <a:fld id="{8297750C-5DCF-41DC-B0C3-9D1C7D6152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7T22:32:36Z</dcterms:created>
  <dc:creator>bealti</dc:creator>
  <dc:description/>
  <dc:language>en-US</dc:language>
  <cp:lastModifiedBy>bealti</cp:lastModifiedBy>
  <dcterms:modified xsi:type="dcterms:W3CDTF">2006-08-24T11:49:29Z</dcterms:modified>
  <cp:revision>38</cp:revision>
  <dc:subject/>
  <dc:title>The Six Party Talks: From Breakthrough to Breakdown </dc:title>
</cp:coreProperties>
</file>